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6A96-1705-4901-B21F-9E20B631D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ing the different sets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gration may be seen as a valuable economic policy but an innapropriate health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BEF-70A9-4B88-826A-8A382271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906-AB90-4243-8621-D3B226A7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CCC-6B89-47FC-82E6-2E4823CC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DC2-411C-4F99-B90F-A255BB2C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8317-FD18-4700-BEA1-D33C3895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5F09-2E59-4CD0-A549-741EFDEB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7705-78BB-40D0-A80E-32DB2195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DFEA-D57E-4AE0-B03C-ACE9E507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F86C-5387-435E-80F2-03D34397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02FE-69A0-417E-ABA4-BCFC6D98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EC02-FB96-45AC-9762-330350DA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452-1107-41D7-8098-99659BF7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C96E-CBF6-4BF8-AFBA-2D2C3866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7EAA-D38C-4A6B-B421-BC1AFDC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CB8B-AED0-4E17-A5D5-D2060F37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434C-C465-4875-B2E7-0C3D8ECF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04DE-163F-4872-94A8-8FB996D7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2273-4754-47C5-A55C-1406BD05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53BE3-3883-4773-A93B-EC71DEC5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7025E-1E4E-4957-941A-FC3F3039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E72C-4BA8-409E-BC2B-82FBCA20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ABF5-CC56-4DFF-AE4A-86D601A0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7BA-EC51-4632-BFEC-B61FBACC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5EAEF-7C9C-4183-A8F1-8BBD7237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E01A-7C40-4EA0-812B-24D857EF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AD3E-EF69-423C-B304-2382F03F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A488-3B4C-41FA-9851-466188AC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E0AC-9DBA-4EED-A9D0-B258B1CF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B3A7-29E3-4191-B91A-38DD4B67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6AA5E-3A51-44D8-85B5-DDE5E405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66946-F0AB-4028-9736-4E0E3A75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7EEC-C352-4516-AFD1-4FE64499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7AA04-B008-4305-93A2-BD86B819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92D-690B-462E-B71C-EFFCE703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592F2-F21C-41D4-9AE8-0846E1D9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151FA-ACED-4882-AAB3-897D1F14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5A30A-41A9-4804-8DB2-C5BA80B8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58309-3B91-4D91-9877-10182319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F1FD8-EC69-484C-B784-8BF20E12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363DD-2F68-4730-9D3D-F47898A4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6D773-5506-4ACF-BE14-D91BFB0E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A774B-787F-42B1-A1B9-99FDD76E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6FBDF-1CBF-4747-BF9E-6C9B2F3E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963-DFAE-49B4-B7BD-9886BD7F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0F0-E16D-47B8-9684-E5D0A34C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507-019C-4638-8D57-F11760E1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DEA-DC42-4877-A7BE-675053D1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357-F740-43FC-95DE-79D9954E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3AC7-224C-439E-AC28-CABC5B929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8910-3D12-4E34-917B-B68633F08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7376-39DA-445D-B16C-B41534F869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6CC0-7F7A-4BB5-9A85-2FBDD0EC8D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9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99264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Arial"/>
              </a:rPr>
              <a:t>The Politics of Health Worker Migration in the Commonwealth:</a:t>
            </a:r>
            <a:br>
              <a:rPr sz="2900"/>
            </a:br>
            <a:r>
              <a:rPr b="1" lang="en-GB" sz="2900" spc="-1" strike="noStrike">
                <a:solidFill>
                  <a:srgbClr val="ffffff"/>
                </a:solidFill>
                <a:latin typeface="Arial"/>
              </a:rPr>
              <a:t>The implementation of the Commonwealth Code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nn Ke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eggy Vid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eijing, Octo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08000" y="5516640"/>
            <a:ext cx="2516040" cy="11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ity of developing a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ing the different sets of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ance and disse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e of monitoring international flow and adherence to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to inform policy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/Reparation /Re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wider Codes, beyond the Common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eas for Future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f codes of practice on health worker migration flows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(individual level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f migration developing countries health systems (system effect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cies on return 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ange and impact of migration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om rhetoric to reality: how are migrant rights defined and operationali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decisions are needed to address the global shor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ies must be evidence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perational research is required to support policy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rehensive Global Code is needed supported by an effective monitoring mech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1457280" cy="1523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 flipV="1" rot="10800000">
            <a:off x="2335320" y="3930480"/>
            <a:ext cx="454176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mmonweal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unique family of 53 developing and developed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8 billion people  - 30% of the world’s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% of world doctors and 18% of world nur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 countries with critical shortage of health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litical determinants of health worker mig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Sector 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Workforce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uneration Pack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ention Strate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Workforce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tice Environ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r policy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gration and Immigration Poli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 and Economic Poli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tical stability, good governance and respect of human righ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cation of % of GDP to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Global Political  Determinant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Global shortage – WHO estimate 4.2 mill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SA needs +1 million health workers by 202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frica needs +1 million health workers to meet MDGs by 201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1 in 4 African doctors, 1 in 20 nurses in OECD countri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mmonwealth countries lose 20,000 nurses annually through mig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lobally, there are changing health care needs and expec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ise in demand for health c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adequate manpower plan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uccessful international recruit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uman Resources for Health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harp rise in demand for health in destination countri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emography- dependency ratio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SA context High disease burden –HIV/AID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580000" y="4221000"/>
            <a:ext cx="289584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lobalisation provides opportunities and 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developing countries health system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ttern of migration is complex and fast cha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ta on migration are weak, fragmented and not always rel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UK: No. of new full nurse registrants from European Economic Area (EEA), and  “other” countries 1993-2005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0" y="1809720"/>
          <a:ext cx="9144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9720"/>
                    <a:ext cx="9144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330200" y="2098800"/>
          <a:ext cx="6239160" cy="400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2098800"/>
                    <a:ext cx="6239160" cy="40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jectives of Commonwealth Code of 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s guidelines for the international recruitment of health wor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nded to discourage the targeted recruitment of health workers from countries which are themselves experiencing short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safeguard the rights of the recruits, and the conditions relating to their profession in the recruitment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9:21:03Z</dcterms:created>
  <dc:creator>Peggy Vidot</dc:creator>
  <dc:description/>
  <dc:language>en-US</dc:language>
  <cp:lastModifiedBy>Wooding, Robert</cp:lastModifiedBy>
  <dcterms:modified xsi:type="dcterms:W3CDTF">2007-11-22T12:41:40Z</dcterms:modified>
  <cp:revision>19</cp:revision>
  <dc:subject/>
  <dc:title>Slide 1</dc:title>
</cp:coreProperties>
</file>