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C0CE-3815-480E-8585-421CE9DB2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ing the different sets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gration may be seen as a valuable economic policy but an innapropriate health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6A7-8E48-439B-96D6-51F5E024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384-D363-465A-84FB-38B99CBC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6EA-396A-4C03-8C28-FFC7CADB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C84-5A62-4036-9948-7FC558BE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D7F7-4515-4D51-9980-2414CC18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993D-6418-4DA9-9937-EC411426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8BA5-AE10-4CE6-90D4-43376BB4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8A35-3E99-49E6-859D-04B3F45C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8240-B2D0-42B9-9D8C-FFE06F9C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9249-DB58-4451-96F5-082E4C18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BDB5-E12F-44C2-B1F6-AE6896F0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C86-FB0F-40CF-81BA-9591ECD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785D-A285-49FF-B66B-B6E9637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C00F-AD83-4C0B-8D69-787B5E15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0EAA-189B-4DA1-A321-E51E681F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5DF0-A0F7-4437-9B04-3556FE75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0D5F-51DD-49F6-ADB5-62D9DD60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FB89-2133-45BB-99FE-2AB93772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EE27-A2CE-4804-9222-0AC34FAA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77E7-35A3-4ACE-8615-FC922ED8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DD80-10EA-4165-B8B2-EECA6013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9A81-D274-4AC9-B3CD-F2C48387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986-6759-45F0-A8E7-332E22F9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29F7-92AC-4B4C-B29E-6B85EA8D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FEAC-C005-4442-B515-45F70538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12B1-FD4F-4DE8-8093-2336B62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C717-4159-4084-A040-302B2706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4C60-35F5-4EC4-93BA-6B9A82E5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6649-C3D9-45DA-A9DD-4FD92381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C290-4DAD-4452-8441-644B3EB4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A0CF-555A-4EE1-8D80-EB74EBB6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9EE74-CB3A-45F1-AB18-FC6DCF1A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B608-CF9E-4174-A8C8-ACF94DA8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5EA-243B-4112-BEC8-ACF43064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0B3E4-165C-4D90-9893-5E38AC45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47299-7A6C-44A2-9C34-D76A0E7B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B70D-984C-4516-B515-7EF01A97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4035-B74A-4C9C-A68F-14A64AD6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FB45-3F23-4ED9-AF34-961854CB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7DF6B-41B8-43C9-B426-9D86D36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34CD-EFDF-4A86-AD4C-22924184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D55A-4A0E-4A39-BB6D-1D87346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F1F5-EE8C-43C9-A38A-35DFCB5A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1A3-FF24-4860-98D0-A69417AA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133-76DC-493A-8CEA-20ED27ED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7CB-49AF-4613-A47B-5491576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C6A-3899-414A-AD56-00DB419D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580-F314-499F-863D-5B82230D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8D61-FC1A-4A19-976D-85A72B7DC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A664-F2AE-405B-A51B-517730290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187F-A3CE-402C-9FC5-14B936E157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AD90-F759-4395-8EF8-D0A9F21249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9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99264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The Politics of Health Worker Migration in the Commonwealth:</a:t>
            </a:r>
            <a:br>
              <a:rPr sz="2900"/>
            </a:b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The implementation of the Commonwealth Code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nn Ke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eggy Vid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eijing, Octo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08000" y="5516640"/>
            <a:ext cx="2516040" cy="11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ity of developing a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the different sets of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ance and disse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 of monitoring international flow and adherence to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to inform policy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/Reparation /Re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wider Codes, beyond the Common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eas for Future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f codes of practice on health worker migration flows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(individual level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f migration developing countries health systems (system effect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cies on return 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nge and impact of migr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m rhetoric to reality: how are migrant rights defined and operationali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decisions are needed to address the global shor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ies must be evidence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perational research is required to support policy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rehensive Global Code is needed supported by an effective monito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1457280" cy="1523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 flipV="1" rot="10800000">
            <a:off x="2335320" y="3930480"/>
            <a:ext cx="454176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monw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unique family of 53 developing and developed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8 billion people  - 30% of the world’s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 of world doctors and 18% of world n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countries with critical shortage of health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itical determinants of health worker mig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Sector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Workforce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uneration Pa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ention Strate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Workforce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e Environ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r policy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ration and Immigration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 and Economic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tical stability, good governance and respect of human righ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cation of % of GDP to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Global Political  Determinant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Global shortage – WHO estimate 4.2 mill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A needs +1 million health workers by 202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frica needs +1 million health workers to meet MDGs by 201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 in 4 African doctors, 1 in 20 nurses in OECD countri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mmonwealth countries lose 20,000 nurses annually through mig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lobally, there are changing health care needs and expec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ise in demand for health c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adequate manpower plan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uccessful international recrui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Resources for Health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harp rise in demand for health in destination countri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emography- dependency rati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SA context High disease burden –HIV/AID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580000" y="4221000"/>
            <a:ext cx="289584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lobalisation provides opportunities and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developing countries health system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ttern of migration is complex and fast ch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a on migration are weak, fragmented and not always rel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K: No. of new full nurse registrants from European Economic Area (EEA), and  “other” countries 1993-2005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0" y="1809720"/>
          <a:ext cx="9144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9720"/>
                    <a:ext cx="9144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330200" y="2098800"/>
          <a:ext cx="6239160" cy="40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2098800"/>
                    <a:ext cx="6239160" cy="40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s of Commonwealth Code of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s guidelines for the international recruitment of health wor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nded to discourage the targeted recruitment of health workers from countries which are themselves experiencing short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safeguard the rights of the recruits, and the conditions relating to their profession in the recruitment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9:21:03Z</dcterms:created>
  <dc:creator>Peggy Vidot</dc:creator>
  <dc:description/>
  <dc:language>en-US</dc:language>
  <cp:lastModifiedBy>Wooding, Robert</cp:lastModifiedBy>
  <dcterms:modified xsi:type="dcterms:W3CDTF">2007-11-22T12:41:40Z</dcterms:modified>
  <cp:revision>19</cp:revision>
  <dc:subject/>
  <dc:title>Slide 1</dc:title>
</cp:coreProperties>
</file>